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447920" y="1585800"/>
            <a:ext cx="5790960" cy="153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1219320" y="1371600"/>
            <a:ext cx="622296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714680" y="182880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olve some absolute-value equations using mental math. For instance, you learned that the equ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utions: 8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95120" y="203040"/>
            <a:ext cx="6543720" cy="446400"/>
            <a:chOff x="195120" y="203040"/>
            <a:chExt cx="6543720" cy="446400"/>
          </a:xfrm>
        </p:grpSpPr>
        <p:pic>
          <p:nvPicPr>
            <p:cNvPr id="40" name="" descr=""/>
            <p:cNvPicPr/>
            <p:nvPr/>
          </p:nvPicPr>
          <p:blipFill>
            <a:blip r:embed="rId1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1344960" y="214200"/>
              <a:ext cx="539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LV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SOLUTE-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U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124080"/>
            <a:ext cx="5790960" cy="153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4680" y="33670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olve absolute-value equations, you can use the fact that the expression inside the absolute value symbols can be either positive or neg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53880" y="887400"/>
            <a:ext cx="8410680" cy="106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360" y="932040"/>
            <a:ext cx="72216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he diameter of a drill bit must be between 0.62 and 0.63 in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Does a bit with a diameter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0.6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meet the requir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09600" y="198360"/>
            <a:ext cx="5536800" cy="460440"/>
            <a:chOff x="309600" y="198360"/>
            <a:chExt cx="5536800" cy="460440"/>
          </a:xfrm>
        </p:grpSpPr>
        <p:sp>
          <p:nvSpPr>
            <p:cNvPr id="405" name=""/>
            <p:cNvSpPr/>
            <p:nvPr/>
          </p:nvSpPr>
          <p:spPr>
            <a:xfrm>
              <a:off x="1685160" y="241200"/>
              <a:ext cx="416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bsolute-Value 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309600" y="198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7080" y="2400480"/>
            <a:ext cx="2571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82080" y="307656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623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20160" y="3828960"/>
            <a:ext cx="23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53880" y="5245200"/>
            <a:ext cx="8410320" cy="533160"/>
            <a:chOff x="353880" y="5245200"/>
            <a:chExt cx="8410320" cy="533160"/>
          </a:xfrm>
        </p:grpSpPr>
        <p:sp>
          <p:nvSpPr>
            <p:cNvPr id="412" name=""/>
            <p:cNvSpPr/>
            <p:nvPr/>
          </p:nvSpPr>
          <p:spPr>
            <a:xfrm>
              <a:off x="353880" y="5245200"/>
              <a:ext cx="841032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880" y="5300640"/>
              <a:ext cx="83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02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0.005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bit does meet the require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588120" y="4567320"/>
            <a:ext cx="24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2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64040" y="2476440"/>
            <a:ext cx="2687760" cy="216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1480" y="2476440"/>
            <a:ext cx="2611440" cy="211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9600" y="198360"/>
            <a:ext cx="5486040" cy="460440"/>
            <a:chOff x="309600" y="198360"/>
            <a:chExt cx="5486040" cy="460440"/>
          </a:xfrm>
        </p:grpSpPr>
        <p:sp>
          <p:nvSpPr>
            <p:cNvPr id="50" name=""/>
            <p:cNvSpPr/>
            <p:nvPr/>
          </p:nvSpPr>
          <p:spPr>
            <a:xfrm>
              <a:off x="1684440" y="241200"/>
              <a:ext cx="41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n Absolute-Valu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800280"/>
            <a:ext cx="2248200" cy="49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1447920"/>
            <a:ext cx="5575320" cy="92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62640" y="2590920"/>
            <a:ext cx="21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93760" y="3124080"/>
            <a:ext cx="15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7720" y="407664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5240" y="408312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25680" y="2590920"/>
            <a:ext cx="22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7680" y="3124080"/>
            <a:ext cx="15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1480" y="5624640"/>
            <a:ext cx="23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5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4040" y="5624640"/>
            <a:ext cx="25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8200" y="1866960"/>
            <a:ext cx="53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can be equal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34600" y="3578400"/>
            <a:ext cx="14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62280" y="2590920"/>
            <a:ext cx="2153160" cy="1447200"/>
            <a:chOff x="1862280" y="2590920"/>
            <a:chExt cx="2153160" cy="1447200"/>
          </a:xfrm>
        </p:grpSpPr>
        <p:sp>
          <p:nvSpPr>
            <p:cNvPr id="66" name=""/>
            <p:cNvSpPr/>
            <p:nvPr/>
          </p:nvSpPr>
          <p:spPr>
            <a:xfrm>
              <a:off x="1862280" y="2590920"/>
              <a:ext cx="21531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34600" y="3578400"/>
              <a:ext cx="144900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679400" y="800280"/>
            <a:ext cx="2248200" cy="49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14600" y="1409760"/>
            <a:ext cx="5749920" cy="1041480"/>
            <a:chOff x="1614600" y="1409760"/>
            <a:chExt cx="5749920" cy="1041480"/>
          </a:xfrm>
        </p:grpSpPr>
        <p:sp>
          <p:nvSpPr>
            <p:cNvPr id="70" name=""/>
            <p:cNvSpPr/>
            <p:nvPr/>
          </p:nvSpPr>
          <p:spPr>
            <a:xfrm>
              <a:off x="1614600" y="1409760"/>
              <a:ext cx="5749920" cy="10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8200" y="1866960"/>
              <a:ext cx="53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he expression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a50a1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a50a1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2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an be equal to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5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a50a1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5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.</a:t>
              </a: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40960" y="15271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1240" y="3613320"/>
            <a:ext cx="14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58880" y="2438280"/>
            <a:ext cx="2649240" cy="2176560"/>
            <a:chOff x="1658880" y="2438280"/>
            <a:chExt cx="2649240" cy="2176560"/>
          </a:xfrm>
        </p:grpSpPr>
        <p:grpSp>
          <p:nvGrpSpPr>
            <p:cNvPr id="75" name=""/>
            <p:cNvGrpSpPr/>
            <p:nvPr/>
          </p:nvGrpSpPr>
          <p:grpSpPr>
            <a:xfrm>
              <a:off x="1658880" y="2438280"/>
              <a:ext cx="2611440" cy="2176560"/>
              <a:chOff x="1658880" y="2438280"/>
              <a:chExt cx="2611440" cy="2176560"/>
            </a:xfrm>
          </p:grpSpPr>
          <p:sp>
            <p:nvSpPr>
              <p:cNvPr id="76" name=""/>
              <p:cNvSpPr/>
              <p:nvPr/>
            </p:nvSpPr>
            <p:spPr>
              <a:xfrm>
                <a:off x="1658880" y="2438280"/>
                <a:ext cx="2611440" cy="2176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68760" y="2552760"/>
                <a:ext cx="2153160" cy="4597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S POSI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99880" y="3085920"/>
                <a:ext cx="1545120" cy="4597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 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0720" y="3540240"/>
                <a:ext cx="1449000" cy="4597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04760" y="4038480"/>
                <a:ext cx="981360" cy="4597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696680" y="2438280"/>
              <a:ext cx="2611440" cy="2176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33680" y="2451240"/>
            <a:ext cx="2611440" cy="2176200"/>
            <a:chOff x="1633680" y="2451240"/>
            <a:chExt cx="2611440" cy="2176200"/>
          </a:xfrm>
        </p:grpSpPr>
        <p:sp>
          <p:nvSpPr>
            <p:cNvPr id="83" name=""/>
            <p:cNvSpPr/>
            <p:nvPr/>
          </p:nvSpPr>
          <p:spPr>
            <a:xfrm>
              <a:off x="1633680" y="2451240"/>
              <a:ext cx="2611440" cy="2176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3560" y="2565360"/>
              <a:ext cx="21531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74680" y="3098880"/>
              <a:ext cx="154512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15520" y="3552840"/>
              <a:ext cx="144900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9560" y="4051440"/>
              <a:ext cx="127332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25680" y="2590920"/>
            <a:ext cx="2265840" cy="1482120"/>
            <a:chOff x="5125680" y="2590920"/>
            <a:chExt cx="2265840" cy="1482120"/>
          </a:xfrm>
        </p:grpSpPr>
        <p:sp>
          <p:nvSpPr>
            <p:cNvPr id="89" name=""/>
            <p:cNvSpPr/>
            <p:nvPr/>
          </p:nvSpPr>
          <p:spPr>
            <a:xfrm>
              <a:off x="5125680" y="2590920"/>
              <a:ext cx="22658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81240" y="3613320"/>
              <a:ext cx="14234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964040" y="2476440"/>
            <a:ext cx="2687760" cy="2163600"/>
            <a:chOff x="4964040" y="2476440"/>
            <a:chExt cx="2687760" cy="2163600"/>
          </a:xfrm>
        </p:grpSpPr>
        <p:sp>
          <p:nvSpPr>
            <p:cNvPr id="92" name=""/>
            <p:cNvSpPr/>
            <p:nvPr/>
          </p:nvSpPr>
          <p:spPr>
            <a:xfrm>
              <a:off x="4964040" y="2476440"/>
              <a:ext cx="2687760" cy="2163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13960" y="4082760"/>
              <a:ext cx="10587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4760" y="2590560"/>
              <a:ext cx="226584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6760" y="3124080"/>
              <a:ext cx="154512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9960" y="3612960"/>
              <a:ext cx="142344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004080" y="4570560"/>
            <a:ext cx="1579320" cy="10285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520" y="4835520"/>
            <a:ext cx="52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ation has two solutions: 7 and –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38240" y="5472000"/>
            <a:ext cx="1192320" cy="561960"/>
            <a:chOff x="1038240" y="5472000"/>
            <a:chExt cx="1192320" cy="5619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038240" y="5472000"/>
              <a:ext cx="482760" cy="482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101" name=""/>
            <p:cNvSpPr/>
            <p:nvPr/>
          </p:nvSpPr>
          <p:spPr>
            <a:xfrm>
              <a:off x="1310760" y="566568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a50a1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0a50a1"/>
                  </a:solidFill>
                  <a:latin typeface="Arial"/>
                </a:rPr>
                <a:t>HE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11280" y="2592360"/>
            <a:ext cx="2873520" cy="316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8480" y="2592360"/>
            <a:ext cx="2908440" cy="3193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9600" y="198360"/>
            <a:ext cx="5486040" cy="460440"/>
            <a:chOff x="309600" y="198360"/>
            <a:chExt cx="5486040" cy="460440"/>
          </a:xfrm>
        </p:grpSpPr>
        <p:sp>
          <p:nvSpPr>
            <p:cNvPr id="106" name=""/>
            <p:cNvSpPr/>
            <p:nvPr/>
          </p:nvSpPr>
          <p:spPr>
            <a:xfrm>
              <a:off x="1684440" y="241200"/>
              <a:ext cx="41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n Absolute-Valu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6760" y="901800"/>
            <a:ext cx="28339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| 2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9280" y="2739960"/>
            <a:ext cx="23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3360" y="3238560"/>
            <a:ext cx="21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8240" y="37656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55920" y="4267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4040" y="47307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1360" y="2762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31040" y="3292560"/>
            <a:ext cx="21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6440" y="380988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55360" y="4302000"/>
            <a:ext cx="15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84120" y="475632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2520" y="52117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1480" y="1587600"/>
            <a:ext cx="7835760" cy="834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8560" y="1967040"/>
            <a:ext cx="77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solate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absolute value 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on one side of th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77760" y="1536840"/>
            <a:ext cx="8001000" cy="939600"/>
            <a:chOff x="977760" y="1536840"/>
            <a:chExt cx="8001000" cy="939600"/>
          </a:xfrm>
        </p:grpSpPr>
        <p:sp>
          <p:nvSpPr>
            <p:cNvPr id="124" name=""/>
            <p:cNvSpPr/>
            <p:nvPr/>
          </p:nvSpPr>
          <p:spPr>
            <a:xfrm>
              <a:off x="977760" y="1536840"/>
              <a:ext cx="8001000" cy="9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68560" y="1967040"/>
              <a:ext cx="767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Isolate th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bsolute value express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on one side of the equa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169640" y="16002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66760" y="901800"/>
            <a:ext cx="28339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98920" y="2739960"/>
            <a:ext cx="2305440" cy="1986840"/>
            <a:chOff x="1798920" y="2739960"/>
            <a:chExt cx="2305440" cy="1986840"/>
          </a:xfrm>
        </p:grpSpPr>
        <p:sp>
          <p:nvSpPr>
            <p:cNvPr id="129" name=""/>
            <p:cNvSpPr/>
            <p:nvPr/>
          </p:nvSpPr>
          <p:spPr>
            <a:xfrm>
              <a:off x="1798920" y="2739960"/>
              <a:ext cx="23054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5920" y="4267080"/>
              <a:ext cx="15969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81360" y="2762280"/>
            <a:ext cx="2418120" cy="2013840"/>
            <a:chOff x="5481360" y="2762280"/>
            <a:chExt cx="2418120" cy="2013840"/>
          </a:xfrm>
        </p:grpSpPr>
        <p:sp>
          <p:nvSpPr>
            <p:cNvPr id="132" name=""/>
            <p:cNvSpPr/>
            <p:nvPr/>
          </p:nvSpPr>
          <p:spPr>
            <a:xfrm>
              <a:off x="5481360" y="2762280"/>
              <a:ext cx="24181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58960" y="4286160"/>
              <a:ext cx="1532880" cy="489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11280" y="2592360"/>
            <a:ext cx="2873520" cy="3168720"/>
            <a:chOff x="1511280" y="2592360"/>
            <a:chExt cx="2873520" cy="3168720"/>
          </a:xfrm>
        </p:grpSpPr>
        <p:sp>
          <p:nvSpPr>
            <p:cNvPr id="135" name=""/>
            <p:cNvSpPr/>
            <p:nvPr/>
          </p:nvSpPr>
          <p:spPr>
            <a:xfrm>
              <a:off x="1511280" y="2592360"/>
              <a:ext cx="2873520" cy="316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9280" y="2740320"/>
              <a:ext cx="23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3360" y="3238560"/>
              <a:ext cx="21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8240" y="3765600"/>
              <a:ext cx="16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56280" y="4267440"/>
              <a:ext cx="15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4400" y="47307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7320" y="5194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5960" y="2808360"/>
              <a:ext cx="13399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36960" y="5194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84280" y="2592360"/>
            <a:ext cx="2873520" cy="316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86080" y="2579760"/>
            <a:ext cx="2873160" cy="3168720"/>
            <a:chOff x="1486080" y="2579760"/>
            <a:chExt cx="2873160" cy="3168720"/>
          </a:xfrm>
        </p:grpSpPr>
        <p:sp>
          <p:nvSpPr>
            <p:cNvPr id="146" name=""/>
            <p:cNvSpPr/>
            <p:nvPr/>
          </p:nvSpPr>
          <p:spPr>
            <a:xfrm>
              <a:off x="1486080" y="2579760"/>
              <a:ext cx="2873160" cy="316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2440" y="2727720"/>
              <a:ext cx="230544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66880" y="3225960"/>
              <a:ext cx="21045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1400" y="3753000"/>
              <a:ext cx="169740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49440" y="4254840"/>
              <a:ext cx="15951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7560" y="4718160"/>
              <a:ext cx="116820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0480" y="5181840"/>
              <a:ext cx="86364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30400" y="2795760"/>
              <a:ext cx="1339560" cy="3142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183280" y="2579760"/>
            <a:ext cx="2923920" cy="3193920"/>
            <a:chOff x="5183280" y="2579760"/>
            <a:chExt cx="2923920" cy="3193920"/>
          </a:xfrm>
        </p:grpSpPr>
        <p:sp>
          <p:nvSpPr>
            <p:cNvPr id="155" name=""/>
            <p:cNvSpPr/>
            <p:nvPr/>
          </p:nvSpPr>
          <p:spPr>
            <a:xfrm>
              <a:off x="5183280" y="2579760"/>
              <a:ext cx="2923920" cy="319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74520" y="2749680"/>
              <a:ext cx="241812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4200" y="3279960"/>
              <a:ext cx="21045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9240" y="3797280"/>
              <a:ext cx="169740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880" y="4289400"/>
              <a:ext cx="152532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76920" y="4743360"/>
              <a:ext cx="111816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35680" y="5199120"/>
              <a:ext cx="9658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84560" y="5008680"/>
            <a:ext cx="2578320" cy="866520"/>
            <a:chOff x="4084560" y="5008680"/>
            <a:chExt cx="2578320" cy="866520"/>
          </a:xfrm>
        </p:grpSpPr>
        <p:sp>
          <p:nvSpPr>
            <p:cNvPr id="163" name=""/>
            <p:cNvSpPr/>
            <p:nvPr/>
          </p:nvSpPr>
          <p:spPr>
            <a:xfrm>
              <a:off x="4084560" y="5008680"/>
              <a:ext cx="2578320" cy="866520"/>
            </a:xfrm>
            <a:prstGeom prst="leftRightArrow">
              <a:avLst>
                <a:gd name="adj1" fmla="val 50000"/>
                <a:gd name="adj2" fmla="val 5923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13160" y="5271840"/>
              <a:ext cx="211464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824200" y="5052960"/>
            <a:ext cx="5187960" cy="890640"/>
            <a:chOff x="2824200" y="5052960"/>
            <a:chExt cx="5187960" cy="890640"/>
          </a:xfrm>
        </p:grpSpPr>
        <p:grpSp>
          <p:nvGrpSpPr>
            <p:cNvPr id="166" name=""/>
            <p:cNvGrpSpPr/>
            <p:nvPr/>
          </p:nvGrpSpPr>
          <p:grpSpPr>
            <a:xfrm>
              <a:off x="2824200" y="5052960"/>
              <a:ext cx="1320840" cy="800280"/>
              <a:chOff x="2824200" y="5052960"/>
              <a:chExt cx="1320840" cy="800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24200" y="5052960"/>
                <a:ext cx="1320840" cy="800280"/>
              </a:xfrm>
              <a:prstGeom prst="irregularSeal1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29040" y="519264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691320" y="5067360"/>
              <a:ext cx="1320840" cy="876240"/>
              <a:chOff x="6691320" y="5067360"/>
              <a:chExt cx="1320840" cy="876240"/>
            </a:xfrm>
          </p:grpSpPr>
          <p:sp>
            <p:nvSpPr>
              <p:cNvPr id="170" name=""/>
              <p:cNvSpPr/>
              <p:nvPr/>
            </p:nvSpPr>
            <p:spPr>
              <a:xfrm>
                <a:off x="6691320" y="5067360"/>
                <a:ext cx="1320840" cy="876240"/>
              </a:xfrm>
              <a:prstGeom prst="irregularSeal1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9280" y="5219640"/>
                <a:ext cx="96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95560" y="4135320"/>
            <a:ext cx="6843600" cy="104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520" y="941400"/>
            <a:ext cx="812448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9600" y="198360"/>
            <a:ext cx="5486040" cy="460440"/>
            <a:chOff x="309600" y="198360"/>
            <a:chExt cx="5486040" cy="460440"/>
          </a:xfrm>
        </p:grpSpPr>
        <p:sp>
          <p:nvSpPr>
            <p:cNvPr id="176" name=""/>
            <p:cNvSpPr/>
            <p:nvPr/>
          </p:nvSpPr>
          <p:spPr>
            <a:xfrm>
              <a:off x="1684440" y="241200"/>
              <a:ext cx="41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n Absolute-Valu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7320" y="10922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stance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0. 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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, then any number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and 8 is a solution of the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36520" y="2919240"/>
            <a:ext cx="8834400" cy="748440"/>
            <a:chOff x="236520" y="2919240"/>
            <a:chExt cx="8834400" cy="748440"/>
          </a:xfrm>
        </p:grpSpPr>
        <p:sp>
          <p:nvSpPr>
            <p:cNvPr id="181" name=""/>
            <p:cNvSpPr/>
            <p:nvPr/>
          </p:nvSpPr>
          <p:spPr>
            <a:xfrm>
              <a:off x="236520" y="3076560"/>
              <a:ext cx="872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152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4184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8052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3108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2140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028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096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984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620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508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73400" y="29210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396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464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03520" y="29210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94200" y="29210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3080" y="2919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680" y="3360600"/>
              <a:ext cx="87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7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6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5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4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3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2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1      0      1      2      3     4      5      6     7      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7560" y="2984400"/>
            <a:ext cx="8037720" cy="195120"/>
            <a:chOff x="547560" y="2984400"/>
            <a:chExt cx="8037720" cy="195120"/>
          </a:xfrm>
        </p:grpSpPr>
        <p:sp>
          <p:nvSpPr>
            <p:cNvPr id="201" name=""/>
            <p:cNvSpPr/>
            <p:nvPr/>
          </p:nvSpPr>
          <p:spPr>
            <a:xfrm>
              <a:off x="547560" y="2985840"/>
              <a:ext cx="193680" cy="193680"/>
            </a:xfrm>
            <a:prstGeom prst="ellipse">
              <a:avLst/>
            </a:prstGeom>
            <a:noFill/>
            <a:ln w="3816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91600" y="2984400"/>
              <a:ext cx="193680" cy="193680"/>
            </a:xfrm>
            <a:prstGeom prst="ellipse">
              <a:avLst/>
            </a:prstGeom>
            <a:noFill/>
            <a:ln w="3816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760" y="3076200"/>
              <a:ext cx="7656840" cy="0"/>
            </a:xfrm>
            <a:prstGeom prst="line">
              <a:avLst/>
            </a:prstGeom>
            <a:ln w="5724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289160" y="4156200"/>
            <a:ext cx="66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the following properties to solve absolute-value inequalities and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7320" y="1092240"/>
            <a:ext cx="79250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distance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0. If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, then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any number between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8 and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olution of the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5200" y="876240"/>
            <a:ext cx="8334360" cy="1287360"/>
            <a:chOff x="565200" y="876240"/>
            <a:chExt cx="8334360" cy="1287360"/>
          </a:xfrm>
        </p:grpSpPr>
        <p:sp>
          <p:nvSpPr>
            <p:cNvPr id="207" name=""/>
            <p:cNvSpPr/>
            <p:nvPr/>
          </p:nvSpPr>
          <p:spPr>
            <a:xfrm>
              <a:off x="565200" y="876240"/>
              <a:ext cx="8334360" cy="12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680" y="109224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all that 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is the distance betwe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0. If 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, then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any number between </a:t>
              </a:r>
              <a:r>
                <a:rPr b="0" lang="en-US" sz="24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8 and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solution of the inequ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06720" y="5181480"/>
            <a:ext cx="1219320" cy="976320"/>
          </a:xfrm>
          <a:prstGeom prst="downArrow">
            <a:avLst>
              <a:gd name="adj1" fmla="val 66667"/>
              <a:gd name="adj2" fmla="val 4325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16000" y="839880"/>
            <a:ext cx="8534160" cy="5141880"/>
            <a:chOff x="216000" y="839880"/>
            <a:chExt cx="8534160" cy="5141880"/>
          </a:xfrm>
        </p:grpSpPr>
        <p:sp>
          <p:nvSpPr>
            <p:cNvPr id="211" name=""/>
            <p:cNvSpPr/>
            <p:nvPr/>
          </p:nvSpPr>
          <p:spPr>
            <a:xfrm>
              <a:off x="216000" y="839880"/>
              <a:ext cx="8534160" cy="514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16000" y="839880"/>
              <a:ext cx="8534160" cy="592200"/>
              <a:chOff x="216000" y="839880"/>
              <a:chExt cx="8534160" cy="592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16000" y="839880"/>
                <a:ext cx="8534160" cy="592200"/>
              </a:xfrm>
              <a:prstGeom prst="rect">
                <a:avLst/>
              </a:prstGeom>
              <a:solidFill>
                <a:srgbClr val="00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2400" y="975240"/>
                <a:ext cx="808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OLVING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SOLUTE-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LUE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QUATIONS AND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NEQUAL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4055400" y="1778040"/>
            <a:ext cx="45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9080" y="262908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1680" y="3467160"/>
            <a:ext cx="45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55400" y="4317840"/>
            <a:ext cx="44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91680" y="5143680"/>
            <a:ext cx="44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8240" y="1778040"/>
            <a:ext cx="17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3600" y="2616120"/>
            <a:ext cx="17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200" y="3467160"/>
            <a:ext cx="17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8240" y="4317840"/>
            <a:ext cx="17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200" y="5143680"/>
            <a:ext cx="17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33520" y="1778040"/>
            <a:ext cx="1565280" cy="459720"/>
            <a:chOff x="2333520" y="1778040"/>
            <a:chExt cx="1565280" cy="459720"/>
          </a:xfrm>
        </p:grpSpPr>
        <p:sp>
          <p:nvSpPr>
            <p:cNvPr id="226" name=""/>
            <p:cNvSpPr/>
            <p:nvPr/>
          </p:nvSpPr>
          <p:spPr>
            <a:xfrm>
              <a:off x="2333520" y="1833840"/>
              <a:ext cx="1565280" cy="387360"/>
            </a:xfrm>
            <a:prstGeom prst="rightArrow">
              <a:avLst>
                <a:gd name="adj1" fmla="val 62296"/>
                <a:gd name="adj2" fmla="val 5730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8920" y="1778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20920" y="2616120"/>
            <a:ext cx="1565280" cy="459720"/>
            <a:chOff x="2320920" y="2616120"/>
            <a:chExt cx="1565280" cy="459720"/>
          </a:xfrm>
        </p:grpSpPr>
        <p:sp>
          <p:nvSpPr>
            <p:cNvPr id="229" name=""/>
            <p:cNvSpPr/>
            <p:nvPr/>
          </p:nvSpPr>
          <p:spPr>
            <a:xfrm>
              <a:off x="2320920" y="2671920"/>
              <a:ext cx="1565280" cy="387360"/>
            </a:xfrm>
            <a:prstGeom prst="rightArrow">
              <a:avLst>
                <a:gd name="adj1" fmla="val 62296"/>
                <a:gd name="adj2" fmla="val 5730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06320" y="26161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333520" y="3454560"/>
            <a:ext cx="1565280" cy="459720"/>
            <a:chOff x="2333520" y="3454560"/>
            <a:chExt cx="1565280" cy="459720"/>
          </a:xfrm>
        </p:grpSpPr>
        <p:sp>
          <p:nvSpPr>
            <p:cNvPr id="232" name=""/>
            <p:cNvSpPr/>
            <p:nvPr/>
          </p:nvSpPr>
          <p:spPr>
            <a:xfrm>
              <a:off x="2333520" y="3510360"/>
              <a:ext cx="1565280" cy="387360"/>
            </a:xfrm>
            <a:prstGeom prst="rightArrow">
              <a:avLst>
                <a:gd name="adj1" fmla="val 62296"/>
                <a:gd name="adj2" fmla="val 5730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18920" y="3454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333520" y="4305240"/>
            <a:ext cx="1565280" cy="459720"/>
            <a:chOff x="2333520" y="4305240"/>
            <a:chExt cx="1565280" cy="459720"/>
          </a:xfrm>
        </p:grpSpPr>
        <p:sp>
          <p:nvSpPr>
            <p:cNvPr id="235" name=""/>
            <p:cNvSpPr/>
            <p:nvPr/>
          </p:nvSpPr>
          <p:spPr>
            <a:xfrm>
              <a:off x="2333520" y="4361040"/>
              <a:ext cx="1565280" cy="387360"/>
            </a:xfrm>
            <a:prstGeom prst="rightArrow">
              <a:avLst>
                <a:gd name="adj1" fmla="val 62296"/>
                <a:gd name="adj2" fmla="val 5730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18920" y="43052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33520" y="5130720"/>
            <a:ext cx="1565280" cy="459720"/>
            <a:chOff x="2333520" y="5130720"/>
            <a:chExt cx="1565280" cy="459720"/>
          </a:xfrm>
        </p:grpSpPr>
        <p:sp>
          <p:nvSpPr>
            <p:cNvPr id="238" name=""/>
            <p:cNvSpPr/>
            <p:nvPr/>
          </p:nvSpPr>
          <p:spPr>
            <a:xfrm>
              <a:off x="2333520" y="5186520"/>
              <a:ext cx="1565280" cy="387360"/>
            </a:xfrm>
            <a:prstGeom prst="rightArrow">
              <a:avLst>
                <a:gd name="adj1" fmla="val 62296"/>
                <a:gd name="adj2" fmla="val 5730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18920" y="51307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222640" y="1701720"/>
            <a:ext cx="1752480" cy="609840"/>
            <a:chOff x="2222640" y="1701720"/>
            <a:chExt cx="1752480" cy="609840"/>
          </a:xfrm>
        </p:grpSpPr>
        <p:sp>
          <p:nvSpPr>
            <p:cNvPr id="241" name=""/>
            <p:cNvSpPr/>
            <p:nvPr/>
          </p:nvSpPr>
          <p:spPr>
            <a:xfrm>
              <a:off x="2222640" y="1701720"/>
              <a:ext cx="17524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8560" y="1778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209680" y="2540160"/>
            <a:ext cx="1752840" cy="609480"/>
            <a:chOff x="2209680" y="2540160"/>
            <a:chExt cx="1752840" cy="609480"/>
          </a:xfrm>
        </p:grpSpPr>
        <p:sp>
          <p:nvSpPr>
            <p:cNvPr id="244" name=""/>
            <p:cNvSpPr/>
            <p:nvPr/>
          </p:nvSpPr>
          <p:spPr>
            <a:xfrm>
              <a:off x="2209680" y="2540160"/>
              <a:ext cx="175284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6320" y="26161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22640" y="3378240"/>
            <a:ext cx="1752480" cy="609480"/>
            <a:chOff x="2222640" y="3378240"/>
            <a:chExt cx="1752480" cy="609480"/>
          </a:xfrm>
        </p:grpSpPr>
        <p:sp>
          <p:nvSpPr>
            <p:cNvPr id="247" name=""/>
            <p:cNvSpPr/>
            <p:nvPr/>
          </p:nvSpPr>
          <p:spPr>
            <a:xfrm>
              <a:off x="2222640" y="3378240"/>
              <a:ext cx="17524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8560" y="34542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222640" y="4229280"/>
            <a:ext cx="1752480" cy="609480"/>
            <a:chOff x="2222640" y="4229280"/>
            <a:chExt cx="1752480" cy="609480"/>
          </a:xfrm>
        </p:grpSpPr>
        <p:sp>
          <p:nvSpPr>
            <p:cNvPr id="250" name=""/>
            <p:cNvSpPr/>
            <p:nvPr/>
          </p:nvSpPr>
          <p:spPr>
            <a:xfrm>
              <a:off x="2222640" y="4229280"/>
              <a:ext cx="17524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8560" y="43052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22640" y="5054760"/>
            <a:ext cx="1752480" cy="609480"/>
            <a:chOff x="2222640" y="5054760"/>
            <a:chExt cx="1752480" cy="609480"/>
          </a:xfrm>
        </p:grpSpPr>
        <p:sp>
          <p:nvSpPr>
            <p:cNvPr id="253" name=""/>
            <p:cNvSpPr/>
            <p:nvPr/>
          </p:nvSpPr>
          <p:spPr>
            <a:xfrm>
              <a:off x="2222640" y="5054760"/>
              <a:ext cx="17524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8560" y="51307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723960"/>
            <a:ext cx="9144000" cy="5422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960" y="2451240"/>
            <a:ext cx="7608960" cy="217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8880" y="2658960"/>
            <a:ext cx="682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an absolute value i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number,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6360" y="3071880"/>
            <a:ext cx="71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equalities are connected by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When an absol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0680" y="3484440"/>
            <a:ext cx="694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 i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number, the inequalities 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39960" y="3971880"/>
            <a:ext cx="2395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nected by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346040" y="214200"/>
            <a:ext cx="56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V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OLUTE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737240" y="1919160"/>
            <a:ext cx="2641320" cy="2154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72080" y="1736640"/>
            <a:ext cx="2752560" cy="24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74640" y="1919160"/>
            <a:ext cx="2476800" cy="2154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1280" y="1854360"/>
            <a:ext cx="2585880" cy="23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14680" y="1040400"/>
            <a:ext cx="24429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l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9600" y="198360"/>
            <a:ext cx="5574600" cy="460440"/>
            <a:chOff x="309600" y="198360"/>
            <a:chExt cx="5574600" cy="460440"/>
          </a:xfrm>
        </p:grpSpPr>
        <p:sp>
          <p:nvSpPr>
            <p:cNvPr id="271" name=""/>
            <p:cNvSpPr/>
            <p:nvPr/>
          </p:nvSpPr>
          <p:spPr>
            <a:xfrm>
              <a:off x="1684800" y="241200"/>
              <a:ext cx="419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n Absolute-Value 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09600" y="198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22960" y="2006640"/>
            <a:ext cx="21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89160" y="2006640"/>
            <a:ext cx="22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49400" y="249084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80880" y="300024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5114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3720" y="249084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2600" y="300024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04280" y="35114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 rot="10800000">
            <a:off x="6095880" y="3510000"/>
            <a:ext cx="387360" cy="977760"/>
          </a:xfrm>
          <a:custGeom>
            <a:avLst/>
            <a:gdLst>
              <a:gd name="textAreaLeft" fmla="*/ 51120 w 387360"/>
              <a:gd name="textAreaRight" fmla="*/ 336600 w 387360"/>
              <a:gd name="textAreaTop" fmla="*/ 833760 h 977760"/>
              <a:gd name="textAreaBottom" fmla="*/ 849600 h 977760"/>
            </a:gdLst>
            <a:ahLst/>
            <a:rect l="textAreaLeft" t="textAreaTop" r="textAreaRight" b="textAreaBottom"/>
            <a:pathLst>
              <a:path w="21600" h="21600">
                <a:moveTo>
                  <a:pt x="0" y="21246"/>
                </a:moveTo>
                <a:lnTo>
                  <a:pt x="18413" y="21246"/>
                </a:lnTo>
                <a:lnTo>
                  <a:pt x="18413" y="2863"/>
                </a:lnTo>
                <a:lnTo>
                  <a:pt x="15580" y="2863"/>
                </a:lnTo>
                <a:lnTo>
                  <a:pt x="18590" y="0"/>
                </a:lnTo>
                <a:lnTo>
                  <a:pt x="21600" y="2863"/>
                </a:lnTo>
                <a:lnTo>
                  <a:pt x="18767" y="2863"/>
                </a:lnTo>
                <a:lnTo>
                  <a:pt x="187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000d"/>
          </a:solidFill>
          <a:ln w="936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54800" y="4159800"/>
            <a:ext cx="2227320" cy="65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Reverse inequality sym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995080" y="3005280"/>
            <a:ext cx="358920" cy="459720"/>
            <a:chOff x="5995080" y="3005280"/>
            <a:chExt cx="358920" cy="459720"/>
          </a:xfrm>
        </p:grpSpPr>
        <p:sp>
          <p:nvSpPr>
            <p:cNvPr id="285" name=""/>
            <p:cNvSpPr/>
            <p:nvPr/>
          </p:nvSpPr>
          <p:spPr>
            <a:xfrm>
              <a:off x="6033960" y="3112920"/>
              <a:ext cx="265320" cy="30492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5080" y="3005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94000" y="4727520"/>
            <a:ext cx="1833480" cy="8254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5480" y="49021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written as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fe000d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080" y="4398840"/>
            <a:ext cx="77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lution is all real numbers greater than 1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 than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16520" y="1490760"/>
            <a:ext cx="2865240" cy="3292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13200" y="1320840"/>
            <a:ext cx="3048120" cy="351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20840" y="3171960"/>
            <a:ext cx="16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4000" y="196848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86840" y="2567160"/>
            <a:ext cx="17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56880" y="3719520"/>
            <a:ext cx="12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6680" y="154944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71160" y="3152880"/>
            <a:ext cx="423000" cy="459720"/>
            <a:chOff x="6671160" y="3152880"/>
            <a:chExt cx="423000" cy="459720"/>
          </a:xfrm>
        </p:grpSpPr>
        <p:sp>
          <p:nvSpPr>
            <p:cNvPr id="299" name=""/>
            <p:cNvSpPr/>
            <p:nvPr/>
          </p:nvSpPr>
          <p:spPr>
            <a:xfrm>
              <a:off x="6711840" y="3220920"/>
              <a:ext cx="328680" cy="35568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71160" y="3152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520320" y="421308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805320"/>
            <a:ext cx="5473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aph th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4640" y="1488960"/>
            <a:ext cx="2916360" cy="329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73120" y="1409760"/>
            <a:ext cx="3089520" cy="34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6120" y="1951200"/>
            <a:ext cx="21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98960" y="2549520"/>
            <a:ext cx="17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43400" y="31827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32280" y="37400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24040" y="15494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5480" y="42102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09600" y="198360"/>
            <a:ext cx="5574600" cy="460440"/>
            <a:chOff x="309600" y="198360"/>
            <a:chExt cx="5574600" cy="460440"/>
          </a:xfrm>
        </p:grpSpPr>
        <p:sp>
          <p:nvSpPr>
            <p:cNvPr id="313" name=""/>
            <p:cNvSpPr/>
            <p:nvPr/>
          </p:nvSpPr>
          <p:spPr>
            <a:xfrm>
              <a:off x="1684800" y="241200"/>
              <a:ext cx="419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n Absolute-Value 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 rot="10800000">
            <a:off x="6459480" y="3603960"/>
            <a:ext cx="480960" cy="1575000"/>
          </a:xfrm>
          <a:custGeom>
            <a:avLst/>
            <a:gdLst>
              <a:gd name="textAreaLeft" fmla="*/ 63720 w 480960"/>
              <a:gd name="textAreaRight" fmla="*/ 417960 w 480960"/>
              <a:gd name="textAreaTop" fmla="*/ 1342440 h 1575000"/>
              <a:gd name="textAreaBottom" fmla="*/ 136836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21246"/>
                </a:moveTo>
                <a:lnTo>
                  <a:pt x="18413" y="21246"/>
                </a:lnTo>
                <a:lnTo>
                  <a:pt x="18413" y="2863"/>
                </a:lnTo>
                <a:lnTo>
                  <a:pt x="15580" y="2863"/>
                </a:lnTo>
                <a:lnTo>
                  <a:pt x="18590" y="0"/>
                </a:lnTo>
                <a:lnTo>
                  <a:pt x="21600" y="2863"/>
                </a:lnTo>
                <a:lnTo>
                  <a:pt x="18767" y="2863"/>
                </a:lnTo>
                <a:lnTo>
                  <a:pt x="187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000d"/>
          </a:solidFill>
          <a:ln w="936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33760" y="4874040"/>
            <a:ext cx="22543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Reverse </a:t>
            </a:r>
            <a:br>
              <a:rPr sz="2000"/>
            </a:b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nequality sym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12880" y="698400"/>
            <a:ext cx="7264440" cy="4419720"/>
            <a:chOff x="812880" y="698400"/>
            <a:chExt cx="7264440" cy="4419720"/>
          </a:xfrm>
        </p:grpSpPr>
        <p:sp>
          <p:nvSpPr>
            <p:cNvPr id="319" name=""/>
            <p:cNvSpPr/>
            <p:nvPr/>
          </p:nvSpPr>
          <p:spPr>
            <a:xfrm>
              <a:off x="812880" y="698400"/>
              <a:ext cx="7264440" cy="441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724040" y="825480"/>
              <a:ext cx="5938560" cy="3123360"/>
              <a:chOff x="1724040" y="825480"/>
              <a:chExt cx="5938560" cy="3123360"/>
            </a:xfrm>
          </p:grpSpPr>
          <p:sp>
            <p:nvSpPr>
              <p:cNvPr id="321" name=""/>
              <p:cNvSpPr/>
              <p:nvPr/>
            </p:nvSpPr>
            <p:spPr>
              <a:xfrm>
                <a:off x="1896120" y="1226880"/>
                <a:ext cx="215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99320" y="1825200"/>
                <a:ext cx="179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43760" y="2458800"/>
                <a:ext cx="167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65840" y="348588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32280" y="3016080"/>
                <a:ext cx="101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84000" y="1244160"/>
                <a:ext cx="212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86840" y="1842840"/>
                <a:ext cx="179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20840" y="2447640"/>
                <a:ext cx="16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1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91800" y="2995200"/>
                <a:ext cx="127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555240" y="3489120"/>
                <a:ext cx="96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24040" y="825480"/>
                <a:ext cx="23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S POSI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26680" y="825480"/>
                <a:ext cx="248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S NEGA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5195880" y="4643280"/>
            <a:ext cx="849240" cy="8510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819440" y="5433840"/>
            <a:ext cx="7358040" cy="751680"/>
            <a:chOff x="1819440" y="5433840"/>
            <a:chExt cx="7358040" cy="751680"/>
          </a:xfrm>
        </p:grpSpPr>
        <p:sp>
          <p:nvSpPr>
            <p:cNvPr id="335" name=""/>
            <p:cNvSpPr/>
            <p:nvPr/>
          </p:nvSpPr>
          <p:spPr>
            <a:xfrm>
              <a:off x="1819440" y="5668920"/>
              <a:ext cx="691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5132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4668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204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740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276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2812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2312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18160" y="5433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13000" y="5446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93960" y="5446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74920" y="5448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55880" y="5448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7200" y="5446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7360" y="5878440"/>
              <a:ext cx="735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5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4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3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2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1      0      1      2      3     4      5     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219800" y="5667480"/>
            <a:ext cx="1544760" cy="0"/>
          </a:xfrm>
          <a:prstGeom prst="line">
            <a:avLst/>
          </a:prstGeom>
          <a:ln w="57240">
            <a:solidFill>
              <a:srgbClr val="008f6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792080" y="5662440"/>
            <a:ext cx="998280" cy="0"/>
          </a:xfrm>
          <a:prstGeom prst="line">
            <a:avLst/>
          </a:prstGeom>
          <a:ln w="572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4440" y="4618080"/>
            <a:ext cx="849240" cy="850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22520" y="3999960"/>
            <a:ext cx="7010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lution is all real numbers greater than or equ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or equal t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can be written as the compound inequalit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07200" y="4851360"/>
            <a:ext cx="3553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16800" y="4848120"/>
            <a:ext cx="3301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66760" y="887400"/>
            <a:ext cx="5113440" cy="3640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9600" y="198360"/>
            <a:ext cx="5536800" cy="460440"/>
            <a:chOff x="309600" y="198360"/>
            <a:chExt cx="5536800" cy="460440"/>
          </a:xfrm>
        </p:grpSpPr>
        <p:sp>
          <p:nvSpPr>
            <p:cNvPr id="359" name=""/>
            <p:cNvSpPr/>
            <p:nvPr/>
          </p:nvSpPr>
          <p:spPr>
            <a:xfrm>
              <a:off x="1685160" y="241200"/>
              <a:ext cx="416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bsolute-Value 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5120" y="1081080"/>
            <a:ext cx="48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quality control department of a manufacturing company. The diameter of a drill bit must be between 0.62 and 0.63 i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66560" y="2629080"/>
            <a:ext cx="4342320" cy="746640"/>
            <a:chOff x="466560" y="2629080"/>
            <a:chExt cx="4342320" cy="746640"/>
          </a:xfrm>
        </p:grpSpPr>
        <p:sp>
          <p:nvSpPr>
            <p:cNvPr id="364" name=""/>
            <p:cNvSpPr/>
            <p:nvPr/>
          </p:nvSpPr>
          <p:spPr>
            <a:xfrm>
              <a:off x="806040" y="2671920"/>
              <a:ext cx="400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Write an absolute-value ine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o represent this requireme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6560" y="2629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a50a1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65840" y="3556080"/>
            <a:ext cx="4521240" cy="746640"/>
            <a:chOff x="465840" y="3556080"/>
            <a:chExt cx="4521240" cy="746640"/>
          </a:xfrm>
        </p:grpSpPr>
        <p:sp>
          <p:nvSpPr>
            <p:cNvPr id="367" name=""/>
            <p:cNvSpPr/>
            <p:nvPr/>
          </p:nvSpPr>
          <p:spPr>
            <a:xfrm>
              <a:off x="805680" y="3598920"/>
              <a:ext cx="418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Does a bit with a diameter of 0.62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inch meet the requiremen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840" y="3556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a50a1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365800" y="888840"/>
            <a:ext cx="3314520" cy="3657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172200" y="4521240"/>
            <a:ext cx="14191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30200" y="3567240"/>
            <a:ext cx="3063960" cy="1201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0360" y="3541680"/>
            <a:ext cx="3238560" cy="13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3960" y="3029040"/>
            <a:ext cx="3087720" cy="45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2992320"/>
            <a:ext cx="3181320" cy="5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360" y="2530440"/>
            <a:ext cx="38797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1520" y="2522520"/>
            <a:ext cx="4032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7120" y="1927080"/>
            <a:ext cx="70106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1960" y="1881360"/>
            <a:ext cx="716616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2440" y="762120"/>
            <a:ext cx="8435880" cy="105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9600" y="198360"/>
            <a:ext cx="5536800" cy="460440"/>
            <a:chOff x="309600" y="198360"/>
            <a:chExt cx="5536800" cy="460440"/>
          </a:xfrm>
        </p:grpSpPr>
        <p:sp>
          <p:nvSpPr>
            <p:cNvPr id="382" name=""/>
            <p:cNvSpPr/>
            <p:nvPr/>
          </p:nvSpPr>
          <p:spPr>
            <a:xfrm>
              <a:off x="1685160" y="241200"/>
              <a:ext cx="416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bsolute-Value 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309600" y="198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1739880" y="6066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6680" y="806400"/>
            <a:ext cx="76802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he diameter of a drill bit must be between 0.62 and 0.63 in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Write an absolute-value inequality to represent this requi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400" y="189720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diameter (in inches) of the drill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522520"/>
            <a:ext cx="37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ompound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86760" y="2487600"/>
            <a:ext cx="22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7840" y="30463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alfway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9760" y="307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9280" y="3552840"/>
            <a:ext cx="30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Sub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25 from each part of the compound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5560" y="3522600"/>
            <a:ext cx="50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60760" y="4046400"/>
            <a:ext cx="35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0200" y="4794120"/>
            <a:ext cx="5064120" cy="3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00" y="4746600"/>
            <a:ext cx="52135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720" y="4765680"/>
            <a:ext cx="50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Re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absolute-value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6960" y="4498920"/>
            <a:ext cx="3351240" cy="1003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99160" y="4773600"/>
            <a:ext cx="264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52440" y="5410080"/>
            <a:ext cx="8410680" cy="775080"/>
            <a:chOff x="352440" y="5410080"/>
            <a:chExt cx="8410680" cy="775080"/>
          </a:xfrm>
        </p:grpSpPr>
        <p:sp>
          <p:nvSpPr>
            <p:cNvPr id="400" name=""/>
            <p:cNvSpPr/>
            <p:nvPr/>
          </p:nvSpPr>
          <p:spPr>
            <a:xfrm>
              <a:off x="352440" y="5410080"/>
              <a:ext cx="8410680" cy="749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5920" y="5430960"/>
              <a:ext cx="71661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inequality can be read as “the actual diameter must differ from 0.625 inch by no more than 0.005 inch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18:44:26Z</dcterms:created>
  <dc:creator>McDougal Littell</dc:creator>
  <dc:description/>
  <dc:language>en-US</dc:language>
  <cp:lastModifiedBy>y2k2pc</cp:lastModifiedBy>
  <dcterms:modified xsi:type="dcterms:W3CDTF">2000-04-03T23:58:13Z</dcterms:modified>
  <cp:revision>93</cp:revision>
  <dc:subject/>
  <dc:title>No Slide Title</dc:title>
</cp:coreProperties>
</file>